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26C-43D4-4C1E-AC34-952A6599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DD6-3AEA-42C8-B616-DD57779B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77B-0522-4FA6-99B8-DEDDA79A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3E7-EE64-4674-A552-EB9110C9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B5E-4FE4-435D-913F-3ABE9310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A82-8CE1-4D85-8E0D-A75FC319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504-2CF8-4488-8E24-2A831F5F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B5D-BA6C-4E88-B7DF-E8ED484C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31C-B5F4-4D51-9AE6-0D7436C9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030-5352-4358-B024-B2B4919E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9C13-066C-4AC6-B93B-CE4F9F8C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8BE9-6D40-4B03-AF64-159090EF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94AB-4D09-4221-A144-F7E89B0F3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athconsultddx.com/pathCon/largeImage?pii=S1559-8675(06)70907-X&amp;figureId=fig5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7864200" cy="1600200"/>
          </a:xfrm>
          <a:prstGeom prst="rect">
            <a:avLst/>
          </a:prstGeom>
          <a:solidFill>
            <a:srgbClr val="eeece1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flammatory Bowel Disease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(IB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7440" y="38862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ashawky\Desktop\mcst logo.jpg"/>
          <p:cNvPicPr/>
          <p:nvPr/>
        </p:nvPicPr>
        <p:blipFill>
          <a:blip r:embed="rId1"/>
          <a:stretch/>
        </p:blipFill>
        <p:spPr>
          <a:xfrm>
            <a:off x="6172200" y="457200"/>
            <a:ext cx="2629080" cy="66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alibri"/>
              </a:rPr>
              <a:t>Colonic pseudopoly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56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Marked lymphocytic infiltration (blue/purple) of the colonic muc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Crypt abscess, a classic finding in ulcerative col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Right Arrow 1"/>
          <p:cNvSpPr/>
          <p:nvPr/>
        </p:nvSpPr>
        <p:spPr>
          <a:xfrm>
            <a:off x="2743200" y="3543480"/>
            <a:ext cx="1206360" cy="3808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Complications of UC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" y="11430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. Bleeding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tal bleeding and bloody diarrhea are two of the hallmark symptoms of ulcerative colit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. Anemi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ulcerative colitis, this is usually the result of chronic blood lo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. Malnutri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ptoms such as diarrhea and rectal bleeding can lead to a loss of fluids and nutri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240" y="228240"/>
            <a:ext cx="83818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.Intestinal Stricture and obstruction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to fibro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. Cancer colon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lcerative colitis patients have a higher risk of developing colon cancer. The risk increases when ulcerative colitis for a prolonged period of ti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28600" y="3045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6. Perforation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sive inflammation can lead to a tear in the intestinal wall, resulting in leakage of bowel contents outside the intesti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7. Toxic megacolon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nflammation spreads from the mucosa to involve the entire intestinal wall which temporarily stops the normal contractile movements of the intestine, and the large intestine may greatly exp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Crohn's disease</a:t>
            </a:r>
            <a:br>
              <a:rPr sz="72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(Regional enteriti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Calibri"/>
              </a:rPr>
              <a:t>* Morphological features of Crohn's diseas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* S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part of G.I.T, but the most common site is the terminal ile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ffected part of the intestine show skip areas i.e. areas free from the le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he intestinal wall is thick and rubber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ed by edema, inflammation, and fibro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bble stone appearan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to edema of the mucosa with interrupting fissuring ulc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8600" y="609480"/>
            <a:ext cx="87631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issuring of the wa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ith formation of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fistula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copically there is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ransmural involvem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 the bowel by mixed inflammatory cells and the presenc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n-caseating granulom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ss appearance of Crohn's disease. There is a sharp demarcation between the involved and the uninvolved area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Gross appearance of Crohn's disease. There is a sharp demarcation between the involved and the uninvolved area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295280"/>
            <a:ext cx="6095880" cy="5181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5960" y="990720"/>
            <a:ext cx="8762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Defini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hronic condition characterized by intestinal inflammation and ulceration that has no exact identifiable cause; may be genetic, immunological or environmen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4"/>
          <p:cNvSpPr/>
          <p:nvPr/>
        </p:nvSpPr>
        <p:spPr>
          <a:xfrm>
            <a:off x="685800" y="30481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bblestone app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3809880" y="8380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795240" y="58975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ohn</a:t>
            </a:r>
            <a:r>
              <a:rPr b="1" lang="en-MY" sz="28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 disease; </a:t>
            </a:r>
            <a:r>
              <a:rPr b="0" lang="en-MY" sz="2400" spc="-1" strike="noStrike" u="sng">
                <a:solidFill>
                  <a:srgbClr val="000000"/>
                </a:solidFill>
                <a:uFillTx/>
                <a:latin typeface="Arial"/>
              </a:rPr>
              <a:t>transmural inflamm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3648240" cy="555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6840" y="5638320"/>
            <a:ext cx="84582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ohn's disease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ing marked inflammatory changes and the formation of a fis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495324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168200" y="5486400"/>
            <a:ext cx="63608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rohn’s disease;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caseating epithioid granul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Complications of crohn’s disease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 Intestinal obstruction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age occurs because the disease tends to thicken the intestinal wall by inflammation and finally fibrosis oc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. Fistula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stino-intestinal, intestino-abdominal and perianal fistula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28240" y="609480"/>
            <a:ext cx="84582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. Malabsorption syndrome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iciencies of proteins, calories, and vitamins deficiencies may be caused by inadequate dietary intake, intestinal loss of protein, or poor absor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76720" y="5486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radley Hand ITC"/>
              </a:rPr>
              <a:t>Thank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ashawky\Desktop\154423_534336243257052_1349915780_n.jpg"/>
          <p:cNvPicPr/>
          <p:nvPr/>
        </p:nvPicPr>
        <p:blipFill>
          <a:blip r:embed="rId1"/>
          <a:stretch/>
        </p:blipFill>
        <p:spPr>
          <a:xfrm>
            <a:off x="152280" y="457200"/>
            <a:ext cx="861084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304920" y="304920"/>
            <a:ext cx="8610480" cy="56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Course of the IB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flammatory bowel disease is a chronic disease (lasting a long time), show periods of exacerbations in which the disease flares up and causes symptoms alternating with areas of remissions in which symptoms disappear or decrease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304920" y="152280"/>
            <a:ext cx="853416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* Symptoms include the follow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ominal cramps and p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y diarrh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appetit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lo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mia (due to blood los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-intestinal manifestations: arthritis, ey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* Two common types of  IB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cerative coliti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rohn’s diseas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Ulcerative coliti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Morphological features of UC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lcerative colitis involve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ect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extend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oximall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 retrograd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hion to involve the entire colon ("pancolitis") in the more severe cas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he affected segment is diffusely inflamed and show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rked inflammatory cellular infiltrat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mucosa by lymphocytes, plasma cells and neutrophi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lcer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228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sudopolyps  forma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plastic surface mucosal cells without fibrovascular co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yptitis and crypt absces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ce of neutrophils inside colonic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ysplasia of the colonic gland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is precancero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Endoscopic image of a sigmoid colon  with ulcerative colit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324480" cy="47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3:37:56Z</dcterms:created>
  <dc:creator>shanky73</dc:creator>
  <dc:description/>
  <dc:language>en-US</dc:language>
  <cp:lastModifiedBy>Jihan Abdelmenam</cp:lastModifiedBy>
  <dcterms:modified xsi:type="dcterms:W3CDTF">2016-02-09T12:52:07Z</dcterms:modified>
  <cp:revision>149</cp:revision>
  <dc:subject/>
  <dc:title>Environmental Triggers ‘‘Westernization’’</dc:title>
</cp:coreProperties>
</file>